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C7A-D59D-414B-93ED-06526E4BA8A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試薬マネージメントが出来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06C5-F0B0-43A9-B9B4-52D7DEF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A54D-933F-4BA9-B805-9EBA7CB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B0C4-4B36-4148-8C3B-33C54660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437D-1092-4050-8020-748F8F57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28A5-ED19-4DE6-9C06-C2A252F1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3662-FB54-4564-889D-CA70BA2C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7885-3360-4403-869A-779E380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0FF1-51AD-4576-97E6-B2C949B6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046-307F-4CDC-B510-46C8D4B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44D-5CBA-4047-96F1-196D65EB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417-94BA-4D59-9391-63AF7B6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1BF3-CB93-49D6-B34A-A918D69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BAB-517E-4FE0-B08D-88B8476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10B-112D-4547-A1D1-A9F10B5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ECC7-2039-4879-BEF5-64120C6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93C-96C9-46E3-9B12-CB2933A5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68B-6E68-4704-A8A4-6B82DD98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0041-037C-46A6-8F0B-19669B6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429B-CBDD-4089-821E-67C6760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8C04-299E-41A8-B384-8115F9F9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45DD-7C9E-4372-B9F5-E6B05BD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C948-43EB-49BC-9677-DA8A9A9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89C1-96F6-4D8D-A92E-80B8A65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E37A-6B53-4141-8510-750B508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F3BF-6308-4BF5-B05E-CABE28542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E09C-6BC5-4883-9C5D-DD80B19B5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EK-6400 serie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chnical semina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 Black"/>
              </a:rPr>
              <a:t>Sensors adjustme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wo manometers for WBC and RBC absorb diluted sample of 360uL from apertures in measurement unit MC-640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ach manometer has two liquid surface detecting sensors, higher and lower sensor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the state that manometer is filled by diluent, the manometers sensors voltage should be lower than 1.5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the state that manometer is empty, the manometers sensors voltage should be higher than 3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 device judges to be or not to be of water at 2.5V. But if sensor voltages are between 2.25V - 2.75V, device cannot detect liquid surface precisely. To keep measur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device displays alarm such as “Manometer dir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just the manometer voltages, you have to change the operator to “Fac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Setting” in “MENU”, and select “USERS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"Factory" and push “CHANGE" key to change the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to enter the password. Enter "4321“ as a password of "Factory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2973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1374840" cy="183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method of the WBC/RB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ometer sensors in the fol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OTHER” key from “MENU” screen. After that, choose “SERVICE”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MONITOR”  key form “SERVICE“ screen, after that choose “Sensor monitor”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1382760" cy="1842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2637000"/>
            <a:ext cx="93636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300640"/>
            <a:ext cx="93672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3068640"/>
            <a:ext cx="21600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411280" y="177336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124000" y="3573360"/>
            <a:ext cx="64764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2565360"/>
            <a:ext cx="93672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997360"/>
            <a:ext cx="57600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059280" y="3860640"/>
            <a:ext cx="1400040" cy="1866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87640" y="3933720"/>
            <a:ext cx="93672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835280" cy="2446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point of  two “Sensor monitor” screen, in normal menu and in service menu, is “INPUT CAL" key in service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just the manometer sensor voltages, push "INPUT CAL" key and change coefficient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87640" y="3860640"/>
            <a:ext cx="1835280" cy="2446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386064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3429000"/>
            <a:ext cx="1081080" cy="43164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1004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ed contents are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C 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sensor coefficient of WBC man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C 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nsor coefficient of WBC man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C 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sensor coefficient of RBC man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C 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nsor coefficient of RBC man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2973600" cy="3963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2700360" y="2565360"/>
            <a:ext cx="2016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700360" y="3357720"/>
            <a:ext cx="2016000" cy="142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700360" y="3573000"/>
            <a:ext cx="201600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700000" y="3860280"/>
            <a:ext cx="194292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 WBC/RB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ometer sensors’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2560" y="2708280"/>
            <a:ext cx="1824120" cy="2430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ve a cursor with arrow key and put “ENTER” key after the input with numerical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ush “OK” key to back to “Sensor monitor” screen, and check that the sensor voltage of manometers in filled by diluent is lower than 1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 check that the sensor voltage is adjusted more than 3.5V in the state that there is no diluent in the mano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eat above operations till these voltages become reasonab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835280" cy="244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95640" y="2205000"/>
            <a:ext cx="1081080" cy="43200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1079000">
            <a:off x="1762920" y="5373360"/>
            <a:ext cx="1081080" cy="43164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luent /Detergent sensor, 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 Lysing reagent  sen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5604120" cy="3886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732720" y="4437000"/>
            <a:ext cx="1525320" cy="970200"/>
          </a:xfrm>
          <a:prstGeom prst="borderCallout2">
            <a:avLst>
              <a:gd name="adj1" fmla="val 18750"/>
              <a:gd name="adj2" fmla="val -8333"/>
              <a:gd name="adj3" fmla="val 11782"/>
              <a:gd name="adj4" fmla="val -46412"/>
              <a:gd name="adj5" fmla="val -144351"/>
              <a:gd name="adj6" fmla="val -89384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1700280"/>
            <a:ext cx="1511280" cy="969840"/>
          </a:xfrm>
          <a:prstGeom prst="borderCallout2">
            <a:avLst>
              <a:gd name="adj1" fmla="val 18750"/>
              <a:gd name="adj2" fmla="val -8333"/>
              <a:gd name="adj3" fmla="val 11782"/>
              <a:gd name="adj4" fmla="val -55148"/>
              <a:gd name="adj5" fmla="val 117513"/>
              <a:gd name="adj6" fmla="val -10725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luent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t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djustment of Diluent /Detergent, Lysing reagent  sensor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K-6400 has two reagent detection sensors which for diluent / detergent detection, and lysing reagent detection in “Inlet and outlet unit JQ-640V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ach liquid sensor voltage is less than 1.5V in a state to filled by reagent, and it is necessary to be adjusted than 3.5V in a empty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 device judges to be or not to be of water at 2.5V. But if sensor voltages are between 2.25V - 2.75V, device cannot detect liquid surface preci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djustment of Diluent /Detergent, Lysing reagent  sensor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splayed contents are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lu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luent and Detergent  detecting sensor co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y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ysing reagent detecting sensor coefficient of WBC man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973240" cy="3963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2484000" y="3141720"/>
            <a:ext cx="208764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4000" y="4221000"/>
            <a:ext cx="21589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Adjustment of Diluent /Detergent, Lysing reagent  sensor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2560" y="2708280"/>
            <a:ext cx="1824120" cy="24303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ve a cursor with arrow key and put “ENTER” key after the input with numerical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ush “OK” key to back to “Sensor monitor” screen, and check that the sensor voltage in filled by reagent is lower than 1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 check that the sensor voltage is adjusted more than 3.5V in the state that there is no dil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eat above operations till these voltages become reasonab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835280" cy="2446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95640" y="2205000"/>
            <a:ext cx="1081080" cy="43200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1079000">
            <a:off x="1762920" y="5373360"/>
            <a:ext cx="1081080" cy="43164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ment of the se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EK-6400 series have 1 HGB measuring sensor, and 6 liquid detecting sen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GB measuring 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BC manometer sensor ( High, Low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BC manometer sensor ( High, Low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luent and detergent detecting 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ysing reagent detecting 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is section is how to adjust these sen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62240" y="2919240"/>
            <a:ext cx="281952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n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1700280"/>
          <a:ext cx="339084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33908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68360" y="162864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292640"/>
            <a:ext cx="352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voltage adjustment is available on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except HGB sensor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195640" y="1699920"/>
            <a:ext cx="1655640" cy="1942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340000" y="1628280"/>
            <a:ext cx="1727280" cy="208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140004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 rot="2407200">
            <a:off x="5580000" y="4581360"/>
            <a:ext cx="704880" cy="84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232272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GB measuring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560412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5013360"/>
            <a:ext cx="165744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151245"/>
              <a:gd name="adj5" fmla="val -140944"/>
              <a:gd name="adj6" fmla="val 19981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B Measuring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GB measuring sensor’s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e is a HGB sensor with a WBC measurement bath in measurement unit MC-640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is necessary to keep measur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f HGB, the HGB sensor voltage should be adjusted around 3.0V in a state of HGB LE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sensor voltage has to be less than 0.5V in a state of HGB LED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the HGB sensor voltage is abnorm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” mark is displayed if the voltage is less than 0.5V when HGB LED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!” mark is displayed if the voltage is more than 4.5V when HGB LED is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?” mark is displayed if the voltage is less than 1.5V when HGB LED is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 case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of HGB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sults beco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GB measuring sensor’s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method of the HGB sensor in the fol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OTHER”  key from “MENU” screen. After that, choose “SENSOR MONITOR” function, so that you can see all sensors’ voltage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405080" cy="187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2214720" cy="2952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71640" y="2781360"/>
            <a:ext cx="936360" cy="287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4653000"/>
            <a:ext cx="936360" cy="287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16000" y="3068640"/>
            <a:ext cx="28728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76360" y="4076280"/>
            <a:ext cx="86364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GB measuring sensor’s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2852640" cy="186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move the side 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eck the WBC measurement bath is filled by dil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urn the variable resistance of the HGB sensor voltage on UT-7201 ( HGB AMP BD, cf. illustration ) and adjust it so that the HGB sensor voltage becomes about 3.0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2577960" cy="205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 flipV="1">
            <a:off x="2123640" y="5013360"/>
            <a:ext cx="64764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5734080"/>
            <a:ext cx="151272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B sensor V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GB measuring sensor’s vol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273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HGB sensor voltage in a state of LED On is about 3.0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is figure is bad cas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HGB sensor voltage in a state of LED Off is less than 0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djustment, replace the side 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3095640" cy="4127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92360" y="249228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9080" y="2492280"/>
            <a:ext cx="86328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989000"/>
            <a:ext cx="1512720" cy="50328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2415200">
            <a:off x="4006800" y="3376080"/>
            <a:ext cx="666720" cy="144720"/>
          </a:xfrm>
          <a:custGeom>
            <a:avLst/>
            <a:gdLst/>
            <a:ahLst/>
            <a:rect l="l" t="t" r="r" b="b"/>
            <a:pathLst>
              <a:path w="1179" h="317">
                <a:moveTo>
                  <a:pt x="1179" y="317"/>
                </a:moveTo>
                <a:cubicBezTo>
                  <a:pt x="959" y="158"/>
                  <a:pt x="740" y="0"/>
                  <a:pt x="544" y="0"/>
                </a:cubicBezTo>
                <a:cubicBezTo>
                  <a:pt x="348" y="0"/>
                  <a:pt x="174" y="158"/>
                  <a:pt x="0" y="3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BC/RBC Manometer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70120" y="1981080"/>
            <a:ext cx="560376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3068640"/>
            <a:ext cx="1584360" cy="1041480"/>
          </a:xfrm>
          <a:prstGeom prst="borderCallout2">
            <a:avLst>
              <a:gd name="adj1" fmla="val 18750"/>
              <a:gd name="adj2" fmla="val -8333"/>
              <a:gd name="adj3" fmla="val 10976"/>
              <a:gd name="adj4" fmla="val 164129"/>
              <a:gd name="adj5" fmla="val 128810"/>
              <a:gd name="adj6" fmla="val 22605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C manometer (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797360"/>
            <a:ext cx="1513080" cy="970200"/>
          </a:xfrm>
          <a:prstGeom prst="borderCallout2">
            <a:avLst>
              <a:gd name="adj1" fmla="val 18750"/>
              <a:gd name="adj2" fmla="val -8333"/>
              <a:gd name="adj3" fmla="val 11782"/>
              <a:gd name="adj4" fmla="val 167680"/>
              <a:gd name="adj5" fmla="val -10148"/>
              <a:gd name="adj6" fmla="val 232842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C manometer (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4797360"/>
            <a:ext cx="1525320" cy="970200"/>
          </a:xfrm>
          <a:prstGeom prst="borderCallout2">
            <a:avLst>
              <a:gd name="adj1" fmla="val 18750"/>
              <a:gd name="adj2" fmla="val -8333"/>
              <a:gd name="adj3" fmla="val 11782"/>
              <a:gd name="adj4" fmla="val -82620"/>
              <a:gd name="adj5" fmla="val -6217"/>
              <a:gd name="adj6" fmla="val -163268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C manometer (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3573360"/>
            <a:ext cx="1511280" cy="970200"/>
          </a:xfrm>
          <a:prstGeom prst="borderCallout2">
            <a:avLst>
              <a:gd name="adj1" fmla="val 18750"/>
              <a:gd name="adj2" fmla="val -8333"/>
              <a:gd name="adj3" fmla="val 11782"/>
              <a:gd name="adj4" fmla="val -75208"/>
              <a:gd name="adj5" fmla="val 86578"/>
              <a:gd name="adj6" fmla="val -148319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C manometer (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22:23:11Z</dcterms:created>
  <dc:creator>ss5043</dc:creator>
  <dc:description/>
  <dc:language>en-US</dc:language>
  <cp:lastModifiedBy> </cp:lastModifiedBy>
  <dcterms:modified xsi:type="dcterms:W3CDTF">2006-04-04T09:50:46Z</dcterms:modified>
  <cp:revision>12</cp:revision>
  <dc:subject/>
  <dc:title>MEK-6400 series Technical seminar</dc:title>
</cp:coreProperties>
</file>